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9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7.jpeg" ContentType="image/jpeg"/>
  <Override PartName="/ppt/media/image17.png" ContentType="image/pn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8.jpeg" ContentType="image/jpeg"/>
  <Override PartName="/ppt/media/image20.png" ContentType="image/png"/>
  <Override PartName="/ppt/media/image16.png" ContentType="image/png"/>
  <Override PartName="/ppt/media/image15.jpeg" ContentType="image/jpe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404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move the slid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718160"/>
            <a:ext cx="4987800" cy="446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B7EBE50-64BB-4B57-A4CB-BAFC4F157F33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BF3BB94-8CB1-4252-AE70-31F61B068921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BUILDING A SUSTAINABL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&gt;Clemens walks on stage, lapel microphone&lt;&l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&gt;Laptop set up on stage lectern, slides controlled by gallery – to be tested at rehearsal&lt;&l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enQ-Siemens, our new brand has been launched.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ast meets West, Square meets Round, Design meets Technology. 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It is our belief that opposites can create new idea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Good afternoon, Ladies and Gentlemen, my name is Clemens Joos, CEO of BenQ Mo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uilt upon the strong heritage of two companies: BenQ and Siemens - BenQ Mobile is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creating the foundation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for a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sustainable future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262080"/>
            <a:ext cx="8553600" cy="19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48180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3/17; CJJ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96240" y="6481800"/>
            <a:ext cx="6537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346DBDD9-89D2-4B7B-A8AE-D3FE5B50CCB3}" type="slidenum"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20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21.png"/><Relationship Id="rId11" Type="http://schemas.openxmlformats.org/officeDocument/2006/relationships/image" Target="../media/image22.jpeg"/><Relationship Id="rId12" Type="http://schemas.openxmlformats.org/officeDocument/2006/relationships/image" Target="../media/image23.jpeg"/><Relationship Id="rId13" Type="http://schemas.openxmlformats.org/officeDocument/2006/relationships/image" Target="../media/image23.jpeg"/><Relationship Id="rId14" Type="http://schemas.openxmlformats.org/officeDocument/2006/relationships/image" Target="../media/image24.jpeg"/><Relationship Id="rId15" Type="http://schemas.openxmlformats.org/officeDocument/2006/relationships/image" Target="../media/image25.jpeg"/><Relationship Id="rId16" Type="http://schemas.openxmlformats.org/officeDocument/2006/relationships/image" Target="../media/image26.jpeg"/><Relationship Id="rId17" Type="http://schemas.openxmlformats.org/officeDocument/2006/relationships/image" Target="../media/image27.jpeg"/><Relationship Id="rId18" Type="http://schemas.openxmlformats.org/officeDocument/2006/relationships/image" Target="../media/image28.jpeg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1547640" y="2492280"/>
              <a:ext cx="2052720" cy="20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2">
              <a:lum bright="20000"/>
            </a:blip>
            <a:stretch/>
          </p:blipFill>
          <p:spPr>
            <a:xfrm>
              <a:off x="2916360" y="4029120"/>
              <a:ext cx="3671640" cy="28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3">
              <a:lum bright="8000"/>
            </a:blip>
            <a:stretch/>
          </p:blipFill>
          <p:spPr>
            <a:xfrm>
              <a:off x="7067520" y="0"/>
              <a:ext cx="2076480" cy="50101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3" name=""/>
            <p:cNvGraphicFramePr/>
            <p:nvPr/>
          </p:nvGraphicFramePr>
          <p:xfrm>
            <a:off x="2484360" y="5278320"/>
            <a:ext cx="2376720" cy="15796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484360" y="5278320"/>
                      <a:ext cx="2376720" cy="157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55" name="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3419640" cy="32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7"/>
            <a:stretch/>
          </p:blipFill>
          <p:spPr>
            <a:xfrm>
              <a:off x="0" y="3068640"/>
              <a:ext cx="2874960" cy="37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8"/>
            <a:stretch/>
          </p:blipFill>
          <p:spPr>
            <a:xfrm>
              <a:off x="3348000" y="0"/>
              <a:ext cx="3456000" cy="41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9"/>
            <a:stretch/>
          </p:blipFill>
          <p:spPr>
            <a:xfrm>
              <a:off x="6318360" y="3860640"/>
              <a:ext cx="2825640" cy="299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"/>
          <p:cNvSpPr/>
          <p:nvPr/>
        </p:nvSpPr>
        <p:spPr>
          <a:xfrm>
            <a:off x="3460680" y="2997360"/>
            <a:ext cx="222264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0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Initial co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Leading the news agenda at CeBIT 2006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937800"/>
            <a:ext cx="7710480" cy="44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Final part of the trilogy  supporting the brand roll out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Focus on creating strong visual images for broadcast media and photographers and capturing pre-event coverage opportuniti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esults from 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March 8 to 13…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750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media attendees at booth incl. 35 tv teams and incl. 350 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international medi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1000</a:t>
            </a: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 press kits were distributed at booth and press cente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633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clippings achieved so far (just five countries are covered!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447840" indent="-26388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132 print, 437 online, 64 TV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41</a:t>
            </a: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 media received interviews with executives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Story featured on at least </a:t>
            </a: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5 news wires</a:t>
            </a: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 incl. dpa, Reuters, ddp, ap and afp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1280" y="5051520"/>
            <a:ext cx="2016000" cy="1344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778880" y="2144880"/>
            <a:ext cx="1226880" cy="1609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402160" y="5099040"/>
            <a:ext cx="2049480" cy="1366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2987640" y="5051520"/>
            <a:ext cx="208908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1644480" y="1039680"/>
            <a:ext cx="1684440" cy="1393920"/>
            <a:chOff x="1644480" y="1039680"/>
            <a:chExt cx="1684440" cy="139392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1805040" y="1039680"/>
              <a:ext cx="1390680" cy="13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1644480" y="1369800"/>
              <a:ext cx="168444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  <a:ea typeface="文鼎中黑"/>
                </a:rPr>
                <a:t>BenQ-Siemens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  <a:ea typeface="文鼎中黑"/>
                </a:rPr>
                <a:t>brand laun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  <a:ea typeface="文鼎中黑"/>
                </a:rPr>
                <a:t>Berlin &amp; Beij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920" y="48960"/>
            <a:ext cx="893772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enQ-Siemens has launched several new handsets in Q1 2006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0" name=""/>
          <p:cNvSpPr/>
          <p:nvPr/>
        </p:nvSpPr>
        <p:spPr>
          <a:xfrm>
            <a:off x="5962680" y="476280"/>
            <a:ext cx="2714760" cy="1123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3560" y="1028880"/>
            <a:ext cx="809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028880" y="1036800"/>
            <a:ext cx="285480" cy="28728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6320" y="1343160"/>
            <a:ext cx="938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  <a:ea typeface="文鼎中黑"/>
              </a:rPr>
              <a:t>Janua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827520" y="1036800"/>
            <a:ext cx="282600" cy="28728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7560" y="1343160"/>
            <a:ext cx="106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  <a:ea typeface="文鼎中黑"/>
              </a:rPr>
              <a:t>Februa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815160" y="1036800"/>
            <a:ext cx="284040" cy="28728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83240" y="1343160"/>
            <a:ext cx="94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  <a:ea typeface="文鼎中黑"/>
              </a:rPr>
              <a:t>Marc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426440" y="1136520"/>
            <a:ext cx="898560" cy="727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448160" y="1317600"/>
            <a:ext cx="1514520" cy="546120"/>
          </a:xfrm>
          <a:prstGeom prst="rect">
            <a:avLst/>
          </a:prstGeom>
          <a:ln w="0">
            <a:noFill/>
          </a:ln>
        </p:spPr>
      </p:pic>
      <p:grpSp>
        <p:nvGrpSpPr>
          <p:cNvPr id="80" name=""/>
          <p:cNvGrpSpPr/>
          <p:nvPr/>
        </p:nvGrpSpPr>
        <p:grpSpPr>
          <a:xfrm>
            <a:off x="2098800" y="2729520"/>
            <a:ext cx="600120" cy="1505520"/>
            <a:chOff x="2098800" y="2729520"/>
            <a:chExt cx="600120" cy="1505520"/>
          </a:xfrm>
        </p:grpSpPr>
        <p:sp>
          <p:nvSpPr>
            <p:cNvPr id="81" name=""/>
            <p:cNvSpPr/>
            <p:nvPr/>
          </p:nvSpPr>
          <p:spPr>
            <a:xfrm>
              <a:off x="2098800" y="2729520"/>
              <a:ext cx="6001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S8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4"/>
            <a:srcRect l="0" t="1417" r="0" b="0"/>
            <a:stretch/>
          </p:blipFill>
          <p:spPr>
            <a:xfrm>
              <a:off x="2113200" y="3016440"/>
              <a:ext cx="549360" cy="121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"/>
          <p:cNvGrpSpPr/>
          <p:nvPr/>
        </p:nvGrpSpPr>
        <p:grpSpPr>
          <a:xfrm>
            <a:off x="1333440" y="2718360"/>
            <a:ext cx="574560" cy="1526400"/>
            <a:chOff x="1333440" y="2718360"/>
            <a:chExt cx="574560" cy="1526400"/>
          </a:xfrm>
        </p:grpSpPr>
        <p:sp>
          <p:nvSpPr>
            <p:cNvPr id="84" name=""/>
            <p:cNvSpPr/>
            <p:nvPr/>
          </p:nvSpPr>
          <p:spPr>
            <a:xfrm>
              <a:off x="1333440" y="271836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S6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5"/>
            <a:stretch/>
          </p:blipFill>
          <p:spPr>
            <a:xfrm>
              <a:off x="1392120" y="2995200"/>
              <a:ext cx="461160" cy="124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"/>
          <p:cNvGrpSpPr/>
          <p:nvPr/>
        </p:nvGrpSpPr>
        <p:grpSpPr>
          <a:xfrm>
            <a:off x="442800" y="2640240"/>
            <a:ext cx="708120" cy="1682280"/>
            <a:chOff x="442800" y="2640240"/>
            <a:chExt cx="708120" cy="1682280"/>
          </a:xfrm>
        </p:grpSpPr>
        <p:sp>
          <p:nvSpPr>
            <p:cNvPr id="87" name=""/>
            <p:cNvSpPr/>
            <p:nvPr/>
          </p:nvSpPr>
          <p:spPr>
            <a:xfrm>
              <a:off x="447120" y="2640240"/>
              <a:ext cx="68688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F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6"/>
            <a:stretch/>
          </p:blipFill>
          <p:spPr>
            <a:xfrm>
              <a:off x="442800" y="2961000"/>
              <a:ext cx="708120" cy="136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"/>
          <p:cNvGrpSpPr/>
          <p:nvPr/>
        </p:nvGrpSpPr>
        <p:grpSpPr>
          <a:xfrm>
            <a:off x="3524400" y="2670480"/>
            <a:ext cx="606240" cy="1609560"/>
            <a:chOff x="3524400" y="2670480"/>
            <a:chExt cx="606240" cy="1609560"/>
          </a:xfrm>
        </p:grpSpPr>
        <p:graphicFrame>
          <p:nvGraphicFramePr>
            <p:cNvPr id="90" name=""/>
            <p:cNvGraphicFramePr/>
            <p:nvPr/>
          </p:nvGraphicFramePr>
          <p:xfrm>
            <a:off x="3524400" y="2958120"/>
            <a:ext cx="606240" cy="1321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524400" y="2958120"/>
                      <a:ext cx="606240" cy="132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>
              <a:off x="3549240" y="2670480"/>
              <a:ext cx="53964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S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454640" y="2723040"/>
            <a:ext cx="571320" cy="1517040"/>
            <a:chOff x="4454640" y="2723040"/>
            <a:chExt cx="571320" cy="1517040"/>
          </a:xfrm>
        </p:grpSpPr>
        <p:graphicFrame>
          <p:nvGraphicFramePr>
            <p:cNvPr id="94" name=""/>
            <p:cNvGraphicFramePr/>
            <p:nvPr/>
          </p:nvGraphicFramePr>
          <p:xfrm>
            <a:off x="4464720" y="3017160"/>
            <a:ext cx="526320" cy="1222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464720" y="3017160"/>
                      <a:ext cx="526320" cy="122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" name=""/>
            <p:cNvSpPr/>
            <p:nvPr/>
          </p:nvSpPr>
          <p:spPr>
            <a:xfrm>
              <a:off x="4454640" y="2723040"/>
              <a:ext cx="5713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F5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283360" y="2554920"/>
            <a:ext cx="875880" cy="1851480"/>
            <a:chOff x="5283360" y="2554920"/>
            <a:chExt cx="875880" cy="1851480"/>
          </a:xfrm>
        </p:grpSpPr>
        <p:pic>
          <p:nvPicPr>
            <p:cNvPr id="98" name="" descr=""/>
            <p:cNvPicPr/>
            <p:nvPr/>
          </p:nvPicPr>
          <p:blipFill>
            <a:blip r:embed="rId11"/>
            <a:srcRect l="19463" t="1152" r="23739" b="1552"/>
            <a:stretch/>
          </p:blipFill>
          <p:spPr>
            <a:xfrm>
              <a:off x="5337360" y="2940840"/>
              <a:ext cx="774360" cy="14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283360" y="2554920"/>
              <a:ext cx="87588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F9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6453360" y="3427920"/>
            <a:ext cx="763200" cy="1497960"/>
            <a:chOff x="6453360" y="3427920"/>
            <a:chExt cx="763200" cy="1497960"/>
          </a:xfrm>
        </p:grpSpPr>
        <p:grpSp>
          <p:nvGrpSpPr>
            <p:cNvPr id="101" name=""/>
            <p:cNvGrpSpPr/>
            <p:nvPr/>
          </p:nvGrpSpPr>
          <p:grpSpPr>
            <a:xfrm>
              <a:off x="6453360" y="3738600"/>
              <a:ext cx="763200" cy="1187280"/>
              <a:chOff x="6453360" y="3738600"/>
              <a:chExt cx="763200" cy="1187280"/>
            </a:xfrm>
          </p:grpSpPr>
          <p:pic>
            <p:nvPicPr>
              <p:cNvPr id="102" name="" descr=""/>
              <p:cNvPicPr/>
              <p:nvPr/>
            </p:nvPicPr>
            <p:blipFill>
              <a:blip r:embed="rId12"/>
              <a:srcRect l="33579" t="22141" r="33261" b="22201"/>
              <a:stretch/>
            </p:blipFill>
            <p:spPr>
              <a:xfrm>
                <a:off x="6852240" y="4008960"/>
                <a:ext cx="364320" cy="64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13"/>
              <a:srcRect l="0" t="1072" r="65318" b="1072"/>
              <a:stretch/>
            </p:blipFill>
            <p:spPr>
              <a:xfrm>
                <a:off x="6453360" y="3738600"/>
                <a:ext cx="398880" cy="1187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4" name=""/>
            <p:cNvSpPr/>
            <p:nvPr/>
          </p:nvSpPr>
          <p:spPr>
            <a:xfrm>
              <a:off x="6497640" y="342792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CF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8350200" y="3114360"/>
            <a:ext cx="730440" cy="2086200"/>
            <a:chOff x="8350200" y="3114360"/>
            <a:chExt cx="730440" cy="2086200"/>
          </a:xfrm>
        </p:grpSpPr>
        <p:pic>
          <p:nvPicPr>
            <p:cNvPr id="106" name="" descr=""/>
            <p:cNvPicPr/>
            <p:nvPr/>
          </p:nvPicPr>
          <p:blipFill>
            <a:blip r:embed="rId14"/>
            <a:stretch/>
          </p:blipFill>
          <p:spPr>
            <a:xfrm>
              <a:off x="8350200" y="3394080"/>
              <a:ext cx="730440" cy="180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8350200" y="3114360"/>
              <a:ext cx="6955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L7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7426440" y="3461040"/>
            <a:ext cx="647640" cy="1642680"/>
            <a:chOff x="7426440" y="3461040"/>
            <a:chExt cx="647640" cy="1642680"/>
          </a:xfrm>
        </p:grpSpPr>
        <p:pic>
          <p:nvPicPr>
            <p:cNvPr id="109" name="" descr=""/>
            <p:cNvPicPr/>
            <p:nvPr/>
          </p:nvPicPr>
          <p:blipFill>
            <a:blip r:embed="rId15"/>
            <a:stretch/>
          </p:blipFill>
          <p:spPr>
            <a:xfrm>
              <a:off x="7426440" y="3749760"/>
              <a:ext cx="647640" cy="13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462800" y="346104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397560" y="1864080"/>
            <a:ext cx="603360" cy="1530000"/>
            <a:chOff x="6397560" y="1864080"/>
            <a:chExt cx="603360" cy="1530000"/>
          </a:xfrm>
        </p:grpSpPr>
        <p:pic>
          <p:nvPicPr>
            <p:cNvPr id="112" name="" descr=""/>
            <p:cNvPicPr/>
            <p:nvPr/>
          </p:nvPicPr>
          <p:blipFill>
            <a:blip r:embed="rId16"/>
            <a:stretch/>
          </p:blipFill>
          <p:spPr>
            <a:xfrm>
              <a:off x="6397560" y="2152800"/>
              <a:ext cx="603360" cy="12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426360" y="186408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C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87360" y="4067640"/>
            <a:ext cx="8478720" cy="2232360"/>
            <a:chOff x="387360" y="4067640"/>
            <a:chExt cx="8478720" cy="2232360"/>
          </a:xfrm>
        </p:grpSpPr>
        <p:sp>
          <p:nvSpPr>
            <p:cNvPr id="115" name=""/>
            <p:cNvSpPr/>
            <p:nvPr/>
          </p:nvSpPr>
          <p:spPr>
            <a:xfrm rot="1855200">
              <a:off x="4816440" y="4026960"/>
              <a:ext cx="255600" cy="1494000"/>
            </a:xfrm>
            <a:prstGeom prst="triangle">
              <a:avLst>
                <a:gd name="adj" fmla="val 50000"/>
              </a:avLst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9806600">
              <a:off x="1147320" y="4268520"/>
              <a:ext cx="314280" cy="1173240"/>
            </a:xfrm>
            <a:prstGeom prst="triangle">
              <a:avLst>
                <a:gd name="adj" fmla="val 50000"/>
              </a:avLst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60680" y="5222880"/>
              <a:ext cx="2583000" cy="890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7360" y="5186520"/>
              <a:ext cx="2663640" cy="95868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32600" y="5197320"/>
              <a:ext cx="2582640" cy="890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8760" y="5234040"/>
              <a:ext cx="266364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35000" indent="-1335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EF81: Listed at major global accounts (VF, TMO,  Telefonica, Orange, KPN) and 16 national accou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03520" y="5234040"/>
              <a:ext cx="247356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42920" indent="-1414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EF91: HSDPA is this year's trend – and BenQ Mobile presents one of the first HSDPA phones in the mar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855200">
              <a:off x="8075520" y="4854600"/>
              <a:ext cx="255600" cy="685800"/>
            </a:xfrm>
            <a:prstGeom prst="triangle">
              <a:avLst>
                <a:gd name="adj" fmla="val 50000"/>
              </a:avLst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02440" y="5234040"/>
              <a:ext cx="266364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35000" indent="-1335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EL71: Listed at major global accounts (VF, TMO,  Telefonica, TIM, Orange, KPN) and &gt; 11 national accou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8456760" y="1283040"/>
            <a:ext cx="574560" cy="1838160"/>
            <a:chOff x="8456760" y="1283040"/>
            <a:chExt cx="574560" cy="1838160"/>
          </a:xfrm>
        </p:grpSpPr>
        <p:pic>
          <p:nvPicPr>
            <p:cNvPr id="125" name="" descr=""/>
            <p:cNvPicPr/>
            <p:nvPr/>
          </p:nvPicPr>
          <p:blipFill>
            <a:blip r:embed="rId17"/>
            <a:stretch/>
          </p:blipFill>
          <p:spPr>
            <a:xfrm flipH="1">
              <a:off x="8488440" y="1600200"/>
              <a:ext cx="542880" cy="15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8456760" y="128304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CL7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7377120" y="1787760"/>
            <a:ext cx="660240" cy="1603080"/>
            <a:chOff x="7377120" y="1787760"/>
            <a:chExt cx="660240" cy="1603080"/>
          </a:xfrm>
        </p:grpSpPr>
        <p:pic>
          <p:nvPicPr>
            <p:cNvPr id="128" name="" descr=""/>
            <p:cNvPicPr/>
            <p:nvPr/>
          </p:nvPicPr>
          <p:blipFill>
            <a:blip r:embed="rId18"/>
            <a:stretch/>
          </p:blipFill>
          <p:spPr>
            <a:xfrm>
              <a:off x="7377120" y="2066760"/>
              <a:ext cx="66024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7426440" y="178776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P5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500"/>
                            </p:stCondLst>
                            <p:childTnLst>
                              <p:par>
                                <p:cTn id="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520" y="48960"/>
            <a:ext cx="855360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Minion"/>
              </a:rPr>
              <a:t>Product line up shows strong leadership position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68440" y="4523040"/>
            <a:ext cx="7731000" cy="1646280"/>
            <a:chOff x="568440" y="4523040"/>
            <a:chExt cx="7731000" cy="1646280"/>
          </a:xfrm>
        </p:grpSpPr>
        <p:sp>
          <p:nvSpPr>
            <p:cNvPr id="134" name=""/>
            <p:cNvSpPr/>
            <p:nvPr/>
          </p:nvSpPr>
          <p:spPr>
            <a:xfrm>
              <a:off x="2506680" y="4523040"/>
              <a:ext cx="579276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10 of 12 cameras of up to 3.2 megapixel (multimedia camer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11 of 12 with multimedia functiona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amera, 16x digital and autofoc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Google search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DRM "PlaysforSure" (Microsof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8440" y="4819680"/>
              <a:ext cx="1735200" cy="1027080"/>
            </a:xfrm>
            <a:custGeom>
              <a:avLst/>
              <a:gdLst>
                <a:gd name="textAreaLeft" fmla="*/ 0 w 1735200"/>
                <a:gd name="textAreaRight" fmla="*/ 1735560 w 173520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fc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3880" y="4797000"/>
              <a:ext cx="15876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eadership in </a:t>
              </a:r>
              <a:r>
                <a:rPr b="1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multimedia and appl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68440" y="2748600"/>
            <a:ext cx="7940520" cy="1646280"/>
            <a:chOff x="568440" y="2748600"/>
            <a:chExt cx="7940520" cy="1646280"/>
          </a:xfrm>
        </p:grpSpPr>
        <p:sp>
          <p:nvSpPr>
            <p:cNvPr id="138" name=""/>
            <p:cNvSpPr/>
            <p:nvPr/>
          </p:nvSpPr>
          <p:spPr>
            <a:xfrm>
              <a:off x="568440" y="2919240"/>
              <a:ext cx="1735200" cy="1027440"/>
            </a:xfrm>
            <a:custGeom>
              <a:avLst/>
              <a:gdLst>
                <a:gd name="textAreaLeft" fmla="*/ 0 w 1735200"/>
                <a:gd name="textAreaRight" fmla="*/ 1735560 w 1735200"/>
                <a:gd name="textAreaTop" fmla="*/ 0 h 1027440"/>
                <a:gd name="textAreaBottom" fmla="*/ 1027800 h 102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fc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2440" y="2895480"/>
              <a:ext cx="14666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eadership in </a:t>
              </a:r>
              <a:r>
                <a:rPr b="1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design and user experi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06680" y="2748600"/>
              <a:ext cx="600228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3 M design: materials, mechanics, miniaturiz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Slimline in bar, slider, clamshell form fa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1/3 of products have at least one design aw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Fast key, dedicated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Simplicity in menu and user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68440" y="1141200"/>
            <a:ext cx="6275160" cy="1371960"/>
            <a:chOff x="568440" y="1141200"/>
            <a:chExt cx="6275160" cy="1371960"/>
          </a:xfrm>
        </p:grpSpPr>
        <p:sp>
          <p:nvSpPr>
            <p:cNvPr id="142" name=""/>
            <p:cNvSpPr/>
            <p:nvPr/>
          </p:nvSpPr>
          <p:spPr>
            <a:xfrm>
              <a:off x="568440" y="1355760"/>
              <a:ext cx="1735200" cy="1027080"/>
            </a:xfrm>
            <a:custGeom>
              <a:avLst/>
              <a:gdLst>
                <a:gd name="textAreaLeft" fmla="*/ 0 w 1735200"/>
                <a:gd name="textAreaRight" fmla="*/ 1735560 w 173520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fc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33240" y="1456920"/>
              <a:ext cx="140364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eadership in </a:t>
              </a:r>
              <a:r>
                <a:rPr b="1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06680" y="1141200"/>
              <a:ext cx="433692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3G HSDPA technolo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display technology: OLED, I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multi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Services Over the 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13480" y="244440"/>
            <a:ext cx="1452600" cy="8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4400" y="2149560"/>
            <a:ext cx="27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nion"/>
              </a:rPr>
              <a:t>Keep explo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39280" y="5927760"/>
            <a:ext cx="437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nion"/>
              </a:rPr>
              <a:t>www.BenQ-Siemens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18524" t="0" r="0" b="0"/>
          <a:stretch/>
        </p:blipFill>
        <p:spPr>
          <a:xfrm>
            <a:off x="1681200" y="2824200"/>
            <a:ext cx="6111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Sven Scheuble</dc:creator>
  <dc:description/>
  <dc:language>en-US</dc:language>
  <cp:lastModifiedBy>ScheubleS</cp:lastModifiedBy>
  <dcterms:modified xsi:type="dcterms:W3CDTF">2006-03-17T17:02:10Z</dcterms:modified>
  <cp:revision>530</cp:revision>
  <dc:subject/>
  <dc:title>All-hands meeting</dc:title>
</cp:coreProperties>
</file>